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43-E955-4B72-B3A1-9C460391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3DE-A2B3-4622-9F6F-4E6E73C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D48-3AE1-4297-A5DA-B2E17B9B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F16-CE21-41C6-BE52-6968DF14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16D-95B7-4F1A-8E8D-F6470A29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89D2-99C2-44E5-A3F1-86EDB242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8CB-9FA5-4305-A169-563ED6E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D6EC-F394-430C-BCC7-4E9E8DB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225-4813-4445-A1C1-4B01E3F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A98-34A5-4247-A0CE-89FC109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2E80-A64C-489D-9AED-DA5725F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D0A-9D36-4488-91A3-4B4CC69C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703-B221-4122-859F-5AD126E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6C8-BB57-492A-A81D-A9DA3D5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5A2-93A1-417B-8ECE-37773BB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F7B-0E56-440F-A335-094D77AC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695-857A-43AC-AF09-27066DA1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844-FE8E-4CFD-A15E-594E320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8A0-9A67-4110-9C17-B8B0871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049-EE7B-4870-90FE-52050CC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27F-2D80-412E-A29F-8762012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3C2-C52C-452C-B425-247F103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B19-41D6-4D10-BCA1-E4A0C03A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C40-825D-47C7-BC75-FC4C496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889E-9349-462A-9AE3-1229CA534B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9AB-7DD2-407A-9D1D-814A16045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Common Sentence E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omma Splices (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un-On Sentences (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ntence Fragments (Fra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#2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, an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, so she could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3: Join the Two Clause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ith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semi-colon (;)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;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;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4: Separate the Clauses into Two Senten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chool. 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tore.  She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had to</a:t>
            </a: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buy eggs to make breakfa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#5: Turn One of the Clauses into a </a:t>
            </a: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Dependent </a:t>
            </a: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Clau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Since the boy walked to school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he arrived at 9:00 a.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Bookman Old Style"/>
              </a:rPr>
              <a:t>Because she needed eggs to make breakfast,</a:t>
            </a:r>
            <a:r>
              <a:rPr b="0" lang="en-US" sz="3400" spc="-1" strike="noStrike">
                <a:solidFill>
                  <a:srgbClr val="ffffff"/>
                </a:solidFill>
                <a:latin typeface="Bookman Old Style"/>
              </a:rPr>
              <a:t> Sarah needed to go to the grocery stor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6: Transform the Two Clauses into a </a:t>
            </a:r>
            <a:br>
              <a:rPr sz="3200"/>
            </a:b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Single</a:t>
            </a: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 Independent Claus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Written as a CS/RO</a:t>
            </a:r>
            <a:r>
              <a:rPr b="1" lang="en-US" sz="3200" spc="-1" strike="noStrike">
                <a:solidFill>
                  <a:srgbClr val="3399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I realized that it was time to </a:t>
            </a: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choose, I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 had to learn how to drive or I had to move back to the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Corrected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I realized that it was time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to learn how to drive or mov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ack to the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Bookman Old Style"/>
              </a:rPr>
              <a:t>What is a Sentence Fragment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are </a:t>
            </a:r>
            <a:r>
              <a:rPr b="0" lang="en-US" sz="3200" spc="-1" strike="noStrike">
                <a:solidFill>
                  <a:srgbClr val="ff3300"/>
                </a:solidFill>
                <a:latin typeface="Bookman Old Style"/>
              </a:rPr>
              <a:t>incomplete sentenc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sually, they are pieces of sentences that have become disconnected from the main clau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ometimes fragments are used intentionally for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 formal, academic writing, however, you want to mostly avoid fra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Complete Sentenc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mes a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subject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– the who or what that performs th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as a complet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that indicates tense, person, and nu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cludes at least one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independent claus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1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does not begin with a subordinating word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a word that connects a dependent clause to an independent clau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Bookman Old Style"/>
              </a:rPr>
              <a:t>Examples of Complete Sentence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Simple Sentence—subject, verb, 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 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(expresses what is true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about the subjec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ound Sentence—at least two independent clauses connected by a coordinator/connector w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er chemistry quiz,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n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lso wrote  her 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Connecting word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 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ookman Old Style"/>
              </a:rPr>
              <a:t>Complex Sentence—one independent clause (main clause) and one dependent cla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Rebecca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tudie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in the coffee shop for hours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ecause      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ordinating word 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(begins the dependent claus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she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had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a chemistry quiz the next 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Subject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Verb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i="1" lang="en-US" sz="1400" spc="-1" strike="noStrike">
                <a:solidFill>
                  <a:srgbClr val="ff3300"/>
                </a:solidFill>
                <a:latin typeface="Bookman Old Style"/>
              </a:rPr>
              <a:t>Pred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 Dependent Claus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s a group of words that contains a subject and a verb but does not express a complete thought and cannot be a sent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ten you can identify a dependent clause because it begins with a connecting (conjunctive or subordinating) word—see the “Connecting Word List” handout to learn what these words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lthough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man Old Style"/>
              </a:rPr>
              <a:t>Rebecca studied in the coffee shop for hour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(The thoughts are incomplete—they are fragments of thought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Several Types of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ependent clau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ixed co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are ap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that introduce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What is a Comma Splice (CS)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comma splice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s a sentence with at least two independent clauses joined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y a com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re is no conjunction or proper transition separate the independent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se begin with a subordinating word.  (See the handout on “Connecting Words” for examples.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y can be easily fixed by attaching the fragment to nearby independent clause 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ith a comma (,)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y creating two sentences by deleting the subordinating word at the beginning of the dependent cl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Fixing Dependent Clause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SU offers many engineering majors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, such a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lectrical, chemical, and industrial engine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the on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 need to find a new roommat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because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one 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have now isn’t working out too w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EXCEPTION: Never use a comma before the word “becaus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ften fragments are phrase fragments – groups of words that lack a subject or complete verb and are usually meant to be modifiers or nou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hrase fragments usually begin with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verbal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 or words that come from verbs, like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putting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gerund)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or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Bookman Old Style"/>
              </a:rPr>
              <a:t>to put</a:t>
            </a:r>
            <a:r>
              <a:rPr b="0" lang="en-US" sz="3200" spc="-1" strike="noStrike">
                <a:solidFill>
                  <a:srgbClr val="3399ff"/>
                </a:solidFill>
                <a:latin typeface="Bookman Old Style"/>
              </a:rPr>
              <a:t> (infinitive).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One way to fix this is to transform the phrase fragment into an independent clau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th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We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splash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explored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play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Fixing Phrase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Another way to fix it is to attach the fragment to the part of the previous sentence that it modif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fu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lake after lunch, explor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woods before dinner, and playing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rabble until bed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summer we had so much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fu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fish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early morning, splashing 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ake after lunch, exploring the wood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fore dinner, and playing Scrabble unti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Mixed Construction Fragm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Mixed Constructions start out one way (often with long prepositional phrases) and then end with a regular predicat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Usually the object of the preposition (ofte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gerund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, is intended as the subject of the sent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Therefore, </a:t>
            </a:r>
            <a:r>
              <a:rPr b="0" lang="en-US" sz="2800" spc="-1" strike="noStrike">
                <a:solidFill>
                  <a:srgbClr val="3399ff"/>
                </a:solidFill>
                <a:latin typeface="Candara"/>
              </a:rPr>
              <a:t>removing the preposition at the beginning of the sentence is usually the easiest way to fix the fragment error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Look for sentences that begin with prepositional phr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ixing Mixed Construction Fragmen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With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the ultimate effect of all advertising is to sell the produ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The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ultimate effect of all advertising is to sell the product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he preposition “with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paying too much attention to disruptive students can make a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aying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oo much attention to disruptive students can make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teacher grumpy. (remove the preposition “by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Candara"/>
              </a:rPr>
              <a:t>(No subject; begins with prepos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doing photography for another newspaper got Phil fi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</a:t>
            </a:r>
            <a:r>
              <a:rPr b="0" lang="en-US" sz="1800" spc="-1" strike="noStrike">
                <a:solidFill>
                  <a:srgbClr val="ff3300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Doing</a:t>
            </a:r>
            <a:r>
              <a:rPr b="0" lang="en-US" sz="1800" spc="-1" strike="noStrike">
                <a:solidFill>
                  <a:srgbClr val="ffcc66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photography for another newspaper got Phil fired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move the preposition “f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Candara"/>
              </a:rPr>
              <a:t>Phil got fired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for doing photography for another newspaper. 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(rearrange the sent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Begin with Transition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 Groups that Start with 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ome fragments start with two- or three-word prepositions that function as transitions, like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as well as, as compared with, except for, in addition to, in contrast with, in spite of, 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and </a:t>
            </a:r>
            <a:r>
              <a:rPr b="0" i="1" lang="en-US" sz="2000" spc="-1" strike="noStrike">
                <a:solidFill>
                  <a:srgbClr val="3399ff"/>
                </a:solidFill>
                <a:latin typeface="Candara"/>
              </a:rPr>
              <a:t>instead of</a:t>
            </a:r>
            <a:r>
              <a:rPr b="0" lang="en-US" sz="2000" spc="-1" strike="noStrike">
                <a:solidFill>
                  <a:srgbClr val="3399ff"/>
                </a:solidFill>
                <a:latin typeface="Candar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.  </a:t>
            </a:r>
            <a:r>
              <a:rPr b="0" lang="en-US" sz="2000" spc="-1" strike="noStrike">
                <a:solidFill>
                  <a:srgbClr val="ff3300"/>
                </a:solidFill>
                <a:latin typeface="Candara"/>
              </a:rPr>
              <a:t>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he growth in gross domestic product (GDP), which has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r sixty-five years, the growth in consumer spending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has been both steep and steady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Candara"/>
              </a:rPr>
              <a:t>, as compared wi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growth in gross domestic product (GDP)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h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ctuated 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that Introduce Examp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ndara"/>
              </a:rPr>
              <a:t>Words and Phrases that Introduce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It is always a good idea to check words groups beginning with </a:t>
            </a:r>
            <a:r>
              <a:rPr b="0" i="1" lang="en-US" sz="2400" spc="-1" strike="noStrike">
                <a:solidFill>
                  <a:srgbClr val="3399ff"/>
                </a:solidFill>
                <a:latin typeface="Candara"/>
              </a:rPr>
              <a:t>for example, like, specifically, such as,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For example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, falling out of favor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being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Elizabeth I of England faced many dangers as a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princess.  For example</a:t>
            </a:r>
            <a:r>
              <a:rPr b="0" lang="en-US" sz="2400" spc="-1" strike="noStrike">
                <a:solidFill>
                  <a:srgbClr val="ff3300"/>
                </a:solidFill>
                <a:latin typeface="Candara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Candara"/>
              </a:rPr>
              <a:t>she fell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out of favor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er sister, Queen Mary, and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Candara"/>
              </a:rPr>
              <a:t>w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imprisoned in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Tower of Lond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Appositives as Fragment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Bookman Old Style"/>
              </a:rPr>
              <a:t>An appositive is a noun or noun phrase that renames a noun or prono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.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former French colony in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southeast Asi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 1965, Lyndon Johnson increased the number of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troops in Vietnam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former French colony in southeast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.”  </a:t>
            </a:r>
            <a:r>
              <a:rPr b="0" lang="en-US" sz="1800" spc="-1" strike="noStrike">
                <a:solidFill>
                  <a:srgbClr val="ff3300"/>
                </a:solidFill>
                <a:latin typeface="Bookman Old Style"/>
              </a:rPr>
              <a:t>A story with deep thoughts and emotions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lotte Perkins Gillman wrote “The Yellow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Wallpaper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Bookman Old Style"/>
              </a:rPr>
              <a:t>,” a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story with deep thoughts and emo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hat is a Run-On (RO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0" lang="en-US" sz="2800" spc="-1" strike="noStrike">
                <a:solidFill>
                  <a:srgbClr val="ffffcc"/>
                </a:solidFill>
                <a:latin typeface="Bookman Old Style"/>
              </a:rPr>
              <a:t>run-on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s a sentence with at least two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dependent clauses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with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 punctuatio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to separate the 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aders can’t tell where one clause ends and the next one begins.  It just keeps going and going and going and going and going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so called a </a:t>
            </a: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fused sentenc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List Frag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man Old Style"/>
              </a:rPr>
              <a:t>Usually, you can connect a list to the preceding sentence using a colon.  If you want to emphasize the list, consider using a dash (em dash) inste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.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Louis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rmstrong, Benny Goodman,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and Duke Ellingt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1930s, three great ban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aders helped popularize Jazz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Bookman Old Style"/>
              </a:rPr>
              <a:t>: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uis Armstrong, Benny Goodman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Duke Ellingt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Fragments with Compound Predicat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A compound predicate is made up of at least two verbs as well as their objects and modifiers, connected by a coordinating conjunction such as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and, but, so, or, nor, for,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Bookman Old Style"/>
              </a:rPr>
              <a:t>yet</a:t>
            </a:r>
            <a:r>
              <a:rPr b="0" i="1" lang="en-US" sz="2000" spc="-1" strike="noStrike">
                <a:solidFill>
                  <a:srgbClr val="3399ff"/>
                </a:solidFill>
                <a:latin typeface="Bookman Old Style"/>
              </a:rPr>
              <a:t>.  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The parts of the predicate </a:t>
            </a:r>
            <a:r>
              <a:rPr b="0" lang="en-US" sz="2000" spc="-1" strike="noStrike" u="sng">
                <a:solidFill>
                  <a:srgbClr val="3399ff"/>
                </a:solidFill>
                <a:uFillTx/>
                <a:latin typeface="Bookman Old Style"/>
              </a:rPr>
              <a:t>have the same subject</a:t>
            </a: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 and should be together in one sent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ragment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.  </a:t>
            </a:r>
            <a:r>
              <a:rPr b="0" lang="en-US" sz="2000" spc="-1" strike="noStrike">
                <a:solidFill>
                  <a:srgbClr val="ff3300"/>
                </a:solidFill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vision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roup gathered at dawn at the base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f the mountain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embled their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ear in preparation for the morning’s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m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Examples of Independent Clauses (IC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boy walked to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e arrived at 9:00 a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arah needed to go to the grocery st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he had to buy eggs to make breakfas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ookman Old Style"/>
              </a:rPr>
              <a:t>ICs Written as Comma Spl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,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,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ICs Written as Run-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chool 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store she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Bookman Old Style"/>
              </a:rPr>
              <a:t>Ways to Fix These Error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SIX W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TO FI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Bookman Old Style"/>
              </a:rPr>
              <a:t>COMMA SPLICES AND RUN-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Bookman Old Style"/>
              </a:rPr>
              <a:t>#1: Use a Transitional Express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Join the two clauses with semi-colon (;), transi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expression,  and a comma (,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boy walked to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chool; soon, 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rrived at 9:00 a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rah needed to go to the grocery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store; specifically, sh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ad to buy eggs to make break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Bookman Old Style"/>
              </a:rPr>
              <a:t>#2: Turn It into a Compound Sentenc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oin the two clauses with a comma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 coordinating conjunction (</a:t>
            </a: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and, but, 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ff"/>
                </a:solidFill>
                <a:latin typeface="Bookman Old Style"/>
              </a:rPr>
              <a:t>nor, for, so, ye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ust be sure to choose the conjunc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best expresses the relationship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between the two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01:29Z</dcterms:created>
  <dc:creator/>
  <dc:description/>
  <dc:language>en-US</dc:language>
  <cp:lastModifiedBy>glsm</cp:lastModifiedBy>
  <dcterms:modified xsi:type="dcterms:W3CDTF">2012-10-18T22:08:46Z</dcterms:modified>
  <cp:revision>60</cp:revision>
  <dc:subject/>
  <dc:title>Common Sentence Errors</dc:title>
</cp:coreProperties>
</file>