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434-DBBF-49C0-9B47-C4090309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ABA-7D3D-44D9-A1AA-7F021885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076-4D61-4CD0-B7DC-CD14632B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B0C-F652-4CFF-A9C6-08D01D22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4E2D-D407-4D53-998E-3A63898C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FFC0-6946-4516-9A9C-AB60EF9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9FD7-DEE8-4851-BFAF-12059973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8042-AE87-4EBA-8CEC-31728685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A3E7-B099-429C-B6A9-CFA9DA9C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A6BC-572B-4EB2-8792-20A9560C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F8B2-50C5-4E15-B684-0AE41092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23D-B91A-4320-9FA1-C1D66309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9AF6-CEDB-46E4-9105-F9B8FF89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7268-AA4D-4D22-B369-AAAB541E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B0D4-01CE-4266-A51A-0597EF58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721D-C992-4D15-9394-A857DB9F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2C50-158C-4F04-BD02-A8E58AD0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0ED-CB7E-40FA-803C-42811B39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17B-832E-4245-BB65-A7972530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730-8717-4CFD-B23C-5644AECA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114-2B1C-41E0-BA64-B24CAA9C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510-ACCE-4094-892E-6C0A478F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E80-2667-46B6-8C1B-163610F8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6AC-64E7-473F-8994-D2D5CB38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2513-AEF1-4517-938A-FA097E9304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CA08-B66B-40FE-9A38-CAAEFAD1C9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Common Sentence Err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omma Splices (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un-On Sentences (R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ntence Fragments (Frag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#2 continu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chool, and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arrived at 9:00 a.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tore, so she could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buy eggs to make breakfa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#3: Join the Two Clauses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with a </a:t>
            </a:r>
            <a:r>
              <a:rPr b="0" lang="en-US" sz="4000" spc="-1" strike="noStrike">
                <a:solidFill>
                  <a:srgbClr val="3399ff"/>
                </a:solidFill>
                <a:latin typeface="Bookman Old Style"/>
              </a:rPr>
              <a:t>semi-colon (;)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chool; he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arrived at 9:00 a.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tore; she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had to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buy eggs to make breakfa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#4: Separate the Clauses into Two Sentenc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chool. He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arrived at 9:00 a.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tore.  She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had to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buy eggs to make breakfa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#5: Turn One of the Clauses into a </a:t>
            </a:r>
            <a:r>
              <a:rPr b="0" lang="en-US" sz="4000" spc="-1" strike="noStrike">
                <a:solidFill>
                  <a:srgbClr val="3399ff"/>
                </a:solidFill>
                <a:latin typeface="Bookman Old Style"/>
              </a:rPr>
              <a:t>Dependent </a:t>
            </a: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Claus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ince the boy walked to school,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 he arrived at 9:00 a.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Because she needed eggs to make breakfast,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 Sarah needed to go to the grocery store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#6: Transform the Two Clauses into a </a:t>
            </a:r>
            <a:br>
              <a:rPr sz="3200"/>
            </a:b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Single</a:t>
            </a: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 Independent Claus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Written as a CS/RO</a:t>
            </a:r>
            <a:r>
              <a:rPr b="1" lang="en-US" sz="3200" spc="-1" strike="noStrike">
                <a:solidFill>
                  <a:srgbClr val="3399ff"/>
                </a:solidFill>
                <a:latin typeface="Bookman Old Style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I realized that it was time to </a:t>
            </a:r>
            <a:r>
              <a:rPr b="1" i="1" lang="en-US" sz="3200" spc="-1" strike="noStrike">
                <a:solidFill>
                  <a:srgbClr val="ff3300"/>
                </a:solidFill>
                <a:latin typeface="Bookman Old Style"/>
              </a:rPr>
              <a:t>choose, I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 had to learn how to drive or I had to move back to the 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Corrected: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I realized that it was time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to learn how to drive or mov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back to the 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Bookman Old Style"/>
              </a:rPr>
              <a:t>What is a Sentence Fragment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are </a:t>
            </a:r>
            <a:r>
              <a:rPr b="0" lang="en-US" sz="3200" spc="-1" strike="noStrike">
                <a:solidFill>
                  <a:srgbClr val="ff3300"/>
                </a:solidFill>
                <a:latin typeface="Bookman Old Style"/>
              </a:rPr>
              <a:t>incomplete sentences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Usually, they are pieces of sentences that have become disconnected from the main clau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ometimes fragments are used intentionally for emph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In formal, academic writing, however, you want to mostly avoid frag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A Complete Sentenc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mes a </a:t>
            </a:r>
            <a:r>
              <a:rPr b="1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subject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– the who or what that performs the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as a complete </a:t>
            </a:r>
            <a:r>
              <a:rPr b="1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that indicates tense, person, and numb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Includes at least one </a:t>
            </a:r>
            <a:r>
              <a:rPr b="1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independent clause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nd </a:t>
            </a:r>
            <a:r>
              <a:rPr b="1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does not begin with a subordinating word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a word that connects a dependent clause to an independent clau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Bookman Old Style"/>
              </a:rPr>
              <a:t>Examples of Complete Sentences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Bookman Old Style"/>
              </a:rPr>
              <a:t>Simple Sentence—subject, verb, predic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Rebecca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 studie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in the coffee shop for her chemistry quiz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  Verb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  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 (expresses what is true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about the subjec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Bookman Old Style"/>
              </a:rPr>
              <a:t>Compound Sentence—at least two independent clauses connected by a coordinator/connector w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Rebecca 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studie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in the coffee shop for her chemistry quiz,</a:t>
            </a:r>
            <a:r>
              <a:rPr b="0" i="1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Verb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an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she    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also wrote  her pap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Connecting word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 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Bookman Old Style"/>
              </a:rPr>
              <a:t>Complex Sentence—one independent clause (main clause) and one dependent clau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Rebecca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studie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in the coffee shop for hours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because      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Verb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ordinating word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(begins the dependent claus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she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ha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a chemistry quiz the next d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Verb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A Dependent Claus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s a group of words that contains a subject and a verb but does not express a complete thought and cannot be a sent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ften you can identify a dependent clause because it begins with a connecting (conjunctive or subordinating) word—see the “Connecting Word List” handout to learn what these words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Because </a:t>
            </a:r>
            <a:r>
              <a:rPr b="0" lang="en-US" sz="2000" spc="-1" strike="noStrike">
                <a:solidFill>
                  <a:srgbClr val="ffffcc"/>
                </a:solidFill>
                <a:latin typeface="Bookman Old Style"/>
              </a:rPr>
              <a:t>Rebecca studied in the coffee shop for ho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Although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Bookman Old Style"/>
              </a:rPr>
              <a:t>Rebecca studied in the coffee shop for hou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And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Bookman Old Style"/>
              </a:rPr>
              <a:t>Rebecca studied in the coffee shop for hour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(The thoughts are incomplete—they are fragments of thought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Several Types of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Dependent clause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hrase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Mixed co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that begin with tran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that introduc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that are appos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that introduce 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with compound 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What is a Comma Splice (CS)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en-US" sz="3200" spc="-1" strike="noStrike">
                <a:solidFill>
                  <a:srgbClr val="ffffcc"/>
                </a:solidFill>
                <a:latin typeface="Bookman Old Style"/>
              </a:rPr>
              <a:t>comma splice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is a sentence with at least two independent clauses joined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by a com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re is no conjunction or proper transition separate the independent cl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Dependent Clause Fragme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se begin with a subordinating word.  (See the handout on “Connecting Words” for examples.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y can be easily fixed by attaching the fragment to nearby independent clause eit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ith a comma (,)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y creating two sentences by deleting the subordinating word at the beginning of the dependent cla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Fixing Dependent Clause Fragme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SU offers many engineering majors.  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Such a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lectrical, chemical, and industrial engine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SU offers many engineering majors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, such a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lectrical, chemical, and industrial engine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 need to find a new roommate.  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Becaus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the one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 have now isn’t working out too we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 need to find a new roommate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because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e one I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have now isn’t working out too we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EXCEPTION: Never use a comma before the word “becaus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Phrase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ften fragments are phrase fragments – groups of words that lack a subject or complete verb and are usually meant to be modifiers or nou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hrase fragments usually begin with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verbals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, or words that come from verbs, like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putting</a:t>
            </a: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 (gerund)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or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to put</a:t>
            </a: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 (infinitive).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Fixing Phrase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Bookman Old Style"/>
              </a:rPr>
              <a:t>One way to fix this is to transform the phrase fragment into an independent claus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summer we had so much fun.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Fish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early morning, splash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lake after lunch, exploring the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oods before dinner, and play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crabble until bed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summer we had so much fun. 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We 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fishe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the early morning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splashe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lake after lunch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explored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woods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fore dinner, and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playe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crabble until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dtim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Fixing Phrase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Bookman Old Style"/>
              </a:rPr>
              <a:t>Another way to fix it is to attach the fragment to the part of the previous sentence that it modif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summer we had so much fun.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Fishin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the early morning, splash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lake after lunch, explor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woods before dinner, and play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crabble until bed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summer we had so much 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fun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fishin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the early morning, splashing in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lake after lunch, exploring the woods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fore dinner, and playing Scrabble until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d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Mixed Construction Fragme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Mixed Constructions start out one way (often with long prepositional phrases) and then end with a regular predicat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Usually the object of the preposition (often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ndara"/>
              </a:rPr>
              <a:t>gerund</a:t>
            </a: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, is intended as the subject of the sentenc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Therefore, </a:t>
            </a:r>
            <a:r>
              <a:rPr b="0" lang="en-US" sz="2800" spc="-1" strike="noStrike">
                <a:solidFill>
                  <a:srgbClr val="3399ff"/>
                </a:solidFill>
                <a:latin typeface="Candara"/>
              </a:rPr>
              <a:t>removing the preposition at the beginning of the sentence is usually the easiest way to fix the fragment error</a:t>
            </a: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Look for sentences that begin with prepositional phr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Fixing Mixed Construction Fragment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Candara"/>
              </a:rPr>
              <a:t>(No subject; begins with prepos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With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the ultimate effect of all advertising is to sell the produ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Candara"/>
              </a:rPr>
              <a:t>The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ultimate effect of all advertising is to sell the product.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(remove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the preposition “with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Candara"/>
              </a:rPr>
              <a:t>(No subject; begins with prepos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By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paying too much attention to disruptive students can make a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teacher grump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Candara"/>
              </a:rPr>
              <a:t>Paying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too much attention to disruptive students can make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teacher grumpy. (remove the preposition “by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Candara"/>
              </a:rPr>
              <a:t>(No subject; begins with prepos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doing photography for another newspaper got Phil fi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Revision: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	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Candara"/>
              </a:rPr>
              <a:t>Doing</a:t>
            </a:r>
            <a:r>
              <a:rPr b="0" lang="en-US" sz="1800" spc="-1" strike="noStrike">
                <a:solidFill>
                  <a:srgbClr val="ffcc66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photography for another newspaper got Phil fired.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(remove the preposition “for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Candara"/>
              </a:rPr>
              <a:t>Phil got fired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for doing photography for another newspaper.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(rearrange the sent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Fragments that Begin with Transition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andara"/>
              </a:rPr>
              <a:t>Word Groups that Start with Tran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Some fragments start with two- or three-word prepositions that function as transitions, like </a:t>
            </a:r>
            <a:r>
              <a:rPr b="0" i="1" lang="en-US" sz="2000" spc="-1" strike="noStrike">
                <a:solidFill>
                  <a:srgbClr val="3399ff"/>
                </a:solidFill>
                <a:latin typeface="Candara"/>
              </a:rPr>
              <a:t>as well as, as compared with, except for, in addition to, in contrast with, in spite of, </a:t>
            </a:r>
            <a:r>
              <a:rPr b="0" lang="en-US" sz="2000" spc="-1" strike="noStrike">
                <a:solidFill>
                  <a:srgbClr val="3399ff"/>
                </a:solidFill>
                <a:latin typeface="Candara"/>
              </a:rPr>
              <a:t>and </a:t>
            </a:r>
            <a:r>
              <a:rPr b="0" i="1" lang="en-US" sz="2000" spc="-1" strike="noStrike">
                <a:solidFill>
                  <a:srgbClr val="3399ff"/>
                </a:solidFill>
                <a:latin typeface="Candara"/>
              </a:rPr>
              <a:t>instead of</a:t>
            </a:r>
            <a:r>
              <a:rPr b="0" lang="en-US" sz="2000" spc="-1" strike="noStrike">
                <a:solidFill>
                  <a:srgbClr val="3399ff"/>
                </a:solidFill>
                <a:latin typeface="Candara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or sixty-five years, the growth in consumer spending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has been both steep and steady.  </a:t>
            </a:r>
            <a:r>
              <a:rPr b="0" lang="en-US" sz="2000" spc="-1" strike="noStrike">
                <a:solidFill>
                  <a:srgbClr val="ff3300"/>
                </a:solidFill>
                <a:latin typeface="Candara"/>
              </a:rPr>
              <a:t>As compared with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the growth in gross domestic product (GDP), which has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luctuated significant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or sixty-five years, the growth in consumer spending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has been both steep and steady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Candara"/>
              </a:rPr>
              <a:t>, as compared with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the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growth in gross domestic product (GDP)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ich h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ctuated significant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Fragments that Introduce Example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andara"/>
              </a:rPr>
              <a:t>Words and Phrases that Introduce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It is always a good idea to check words groups beginning with </a:t>
            </a:r>
            <a:r>
              <a:rPr b="0" i="1" lang="en-US" sz="2400" spc="-1" strike="noStrike">
                <a:solidFill>
                  <a:srgbClr val="3399ff"/>
                </a:solidFill>
                <a:latin typeface="Candara"/>
              </a:rPr>
              <a:t>for example, like, specifically, such as,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Elizabeth I of England faced many dangers as a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princess.  </a:t>
            </a:r>
            <a:r>
              <a:rPr b="0" lang="en-US" sz="2400" spc="-1" strike="noStrike">
                <a:solidFill>
                  <a:srgbClr val="ff3300"/>
                </a:solidFill>
                <a:latin typeface="Candara"/>
              </a:rPr>
              <a:t>For example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, falling out of favor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er sister, Queen Mary, and being imprisoned in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the Tower of Londo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Elizabeth I of England faced many dangers as a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princess.  For example</a:t>
            </a:r>
            <a:r>
              <a:rPr b="0" lang="en-US" sz="2400" spc="-1" strike="noStrike">
                <a:solidFill>
                  <a:srgbClr val="ff3300"/>
                </a:solidFill>
                <a:latin typeface="Candara"/>
              </a:rPr>
              <a:t>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Candara"/>
              </a:rPr>
              <a:t>she fell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out of favor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er sister, Queen Mary, and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Candara"/>
              </a:rPr>
              <a:t>was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imprisoned in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the Tower of Lond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Appositives as Fragment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Bookman Old Style"/>
              </a:rPr>
              <a:t>An appositive is a noun or noun phrase that renames a noun or prono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n 1965, Lyndon Johnson increased the number of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troops in Vietnam.  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A former French colony in 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southeast Asia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n 1965, Lyndon Johnson increased the number of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troops in Vietnam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Bookman Old Style"/>
              </a:rPr>
              <a:t>, a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former French colony in southeast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s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harlotte Perkins Gillman wrote “The Yellow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Wallpaper.”  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A story with deep thoughts and emotions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harlotte Perkins Gillman wrote “The Yellow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Wallpaper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Bookman Old Style"/>
              </a:rPr>
              <a:t>,” a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story with deep thoughts and emot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What is a Run-On (RO)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0" lang="en-US" sz="2800" spc="-1" strike="noStrike">
                <a:solidFill>
                  <a:srgbClr val="ffffcc"/>
                </a:solidFill>
                <a:latin typeface="Bookman Old Style"/>
              </a:rPr>
              <a:t>run-on sentenc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is a sentence with at least two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dependent clauses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with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no punctuatio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to separate the cl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eaders can’t tell where one clause ends and the next one begins.  It just keeps going and going and going and going and going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lso called a </a:t>
            </a:r>
            <a:r>
              <a:rPr b="1" lang="en-US" sz="2800" spc="-1" strike="noStrike">
                <a:solidFill>
                  <a:srgbClr val="ffffcc"/>
                </a:solidFill>
                <a:latin typeface="Bookman Old Style"/>
              </a:rPr>
              <a:t>fused sentenc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List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Bookman Old Style"/>
              </a:rPr>
              <a:t>Usually, you can connect a list to the preceding sentence using a colon.  If you want to emphasize the list, consider using a dash (em dash) inste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1930s, three great ban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aders helped popularize Jazz.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Louis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Armstrong, Benny Goodman, 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and Duke Ellingt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1930s, three great ban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aders helped popularize Jazz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: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ouis Armstrong, Benny Goodman,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d Duke Ellingt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Fragments with Compound Predicate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A compound predicate is made up of at least two verbs as well as their objects and modifiers, connected by a coordinating conjunction such as </a:t>
            </a:r>
            <a:r>
              <a:rPr b="0" i="1" lang="en-US" sz="2000" spc="-1" strike="noStrike">
                <a:solidFill>
                  <a:srgbClr val="ff3300"/>
                </a:solidFill>
                <a:latin typeface="Bookman Old Style"/>
              </a:rPr>
              <a:t>and, but, so, or, nor, for, 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and </a:t>
            </a:r>
            <a:r>
              <a:rPr b="0" i="1" lang="en-US" sz="2000" spc="-1" strike="noStrike">
                <a:solidFill>
                  <a:srgbClr val="ff3300"/>
                </a:solidFill>
                <a:latin typeface="Bookman Old Style"/>
              </a:rPr>
              <a:t>yet</a:t>
            </a:r>
            <a:r>
              <a:rPr b="0" i="1" lang="en-US" sz="2000" spc="-1" strike="noStrike">
                <a:solidFill>
                  <a:srgbClr val="3399ff"/>
                </a:solidFill>
                <a:latin typeface="Bookman Old Style"/>
              </a:rPr>
              <a:t>.  </a:t>
            </a: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The parts of the predicate </a:t>
            </a:r>
            <a:r>
              <a:rPr b="0" lang="en-US" sz="2000" spc="-1" strike="noStrike" u="sng">
                <a:solidFill>
                  <a:srgbClr val="3399ff"/>
                </a:solidFill>
                <a:uFillTx/>
                <a:latin typeface="Bookman Old Style"/>
              </a:rPr>
              <a:t>have the same subject</a:t>
            </a: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 and should be together in one senten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e group gathered at dawn at the base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f the mountain.  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And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ssembled their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ear in preparation for the morning’s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m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e group gathered at dawn at the base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f the mountain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and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ssembled their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ear in preparation for the morning’s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m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Examples of Independent Clauses (IC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 boy walked to scho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e arrived at 9:00 a.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arah needed to go to the grocery st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he had to buy eggs to make breakfas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ICs Written as Comma Splic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school, h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arrived at 9:00 a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store, sh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had to buy eggs to make breakf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ICs Written as Run-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school h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arrived at 9:00 a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store sh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had to buy eggs to make breakf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Ways to Fix These Error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Bookman Old Style"/>
              </a:rPr>
              <a:t>SIX W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Bookman Old Style"/>
              </a:rPr>
              <a:t>TO FIX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Bookman Old Style"/>
              </a:rPr>
              <a:t>COMMA SPLICES AND RUN-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Bookman Old Style"/>
              </a:rPr>
              <a:t>#1: Use a Transitional Expression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Join the two clauses with semi-colon (;), transiti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expression,  and a comma (,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school; soon, h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rrived at 9:00 a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store; specifically, sh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had to buy eggs to make breakf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#2: Turn It into a Compound Sentenc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Join the two clauses with a comma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 coordinating conjunction (</a:t>
            </a:r>
            <a:r>
              <a:rPr b="0" i="1" lang="en-US" sz="3200" spc="-1" strike="noStrike">
                <a:solidFill>
                  <a:srgbClr val="3399ff"/>
                </a:solidFill>
                <a:latin typeface="Bookman Old Style"/>
              </a:rPr>
              <a:t>and, but, o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99ff"/>
                </a:solidFill>
                <a:latin typeface="Bookman Old Style"/>
              </a:rPr>
              <a:t>nor, for, so, yet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Just be sure to choose the conjunction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man Old Style"/>
              </a:rPr>
              <a:t>best expresses the relationship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between the two cl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01:29Z</dcterms:created>
  <dc:creator/>
  <dc:description/>
  <dc:language>en-US</dc:language>
  <cp:lastModifiedBy>glsm</cp:lastModifiedBy>
  <dcterms:modified xsi:type="dcterms:W3CDTF">2012-10-18T22:08:46Z</dcterms:modified>
  <cp:revision>60</cp:revision>
  <dc:subject/>
  <dc:title>Common Sentence Errors</dc:title>
</cp:coreProperties>
</file>