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FC2-566A-4277-A78A-EE26619B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CDB-2D70-4AEF-8A4E-D8D03845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BF1-DABC-4128-B21E-C9CB5BF4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6F8-D9E4-4594-9966-8D95A451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00B0-1A94-404B-BEB6-594A3920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D636-356C-4A5E-8210-4CA4F8B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8F1C-3CEC-4502-B033-F820795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2D8-01A4-448E-9D19-65B03B45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BAE-CFA5-488F-900A-8FEAFF62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FB65-D31D-4A43-8FF7-B67A61B2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2E3-AEAF-4046-B716-454F0D9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7FA-870B-435A-83A1-8B3B2128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754B-D134-417F-9A4F-81548F2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D927-140F-4678-AA51-1201880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FDF3-40FB-46E8-90EE-D9A2454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0B0-61E7-4E98-8CC9-C839AB75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5818-DE4E-4403-B9D7-DCA02F38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E9F-2284-470A-A706-CC306B58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752-7575-4D4F-89FF-DAD4439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271-338D-42AB-85A4-EED6771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992-73C5-4036-8558-02ECD88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0A8-EB22-46E3-829D-DFD2D71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532-0AEA-489E-92DF-576254B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3EF-B744-4F8D-8499-76EE0BF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287-67FC-4DB2-9020-0DA230289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30C-AFE2-49E6-B5BC-261D18204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Common Sentence E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omma Splices (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un-On Sentences (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ntence Fragments (Fra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#2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, an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, so she coul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3: Join the Two Clause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ith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semi-colon (;)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;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;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4: Separate the Clauses into Two Senten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.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. 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5: Turn One of the Clauses into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Dependent </a:t>
            </a: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Clau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ince the boy walked to school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he 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Because she needed eggs to make breakfast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Sarah needed to go to the grocery stor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6: Transform the Two Clauses into a </a:t>
            </a:r>
            <a:br>
              <a:rPr sz="3200"/>
            </a:b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Single</a:t>
            </a: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 Independent Claus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Written as a CS/RO</a:t>
            </a:r>
            <a:r>
              <a:rPr b="1" lang="en-US" sz="3200" spc="-1" strike="noStrike">
                <a:solidFill>
                  <a:srgbClr val="3399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I realized that it was time to </a:t>
            </a: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choose, I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 had to learn how to drive or I had to move back to the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Corrected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I realized that it was time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to learn how to drive or mov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ack to the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What is a Sentence Fragment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are </a:t>
            </a:r>
            <a:r>
              <a:rPr b="0" lang="en-US" sz="3200" spc="-1" strike="noStrike">
                <a:solidFill>
                  <a:srgbClr val="ff3300"/>
                </a:solidFill>
                <a:latin typeface="Bookman Old Style"/>
              </a:rPr>
              <a:t>incomplete sentenc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sually, they are pieces of sentences that have become disconnected from the main clau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ometimes fragments are used intentionally for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 formal, academic writing, however, you want to mostly avoid fra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Complete Sentenc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mes a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subject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– the who or what that performs th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as a complet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that indicates tense, person, and nu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cludes at least on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independent claus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does not begin with a subordinating word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a word that connects a dependent clause to an independent clau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Bookman Old Style"/>
              </a:rPr>
              <a:t>Examples of Complete Sentence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Simple Sentence—subject, verb, 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 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(expresses what is true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about the subjec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ound Sentence—at least two independent clauses connected by a coordinator/connector w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,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lso wrote  her 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Connecting word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lex Sentence—one independent clause (main clause) and one dependent cla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ours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ecause  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ordinating word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(begins the dependent claus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ha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 chemistry quiz the next 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Dependent Claus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s a group of words that contains a subject and a verb but does not express a complete thought and cannot be a sent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ten you can identify a dependent clause because it begins with a connecting (conjunctive or subordinating) word—see the “Connecting Word List” handout to learn what these words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lthough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(The thoughts are incomplete—they are fragments of thought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Several Types of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ependent clau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ixed co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are ap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hat is a Comma Splice (CS)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comma splic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s a sentence with at least two independent clauses joined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y a com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re is no conjunction or proper transition separate the independent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se begin with a subordinating word.  (See the handout on “Connecting Words” for examples.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y can be easily fixed by attaching the fragment to nearby independent clause 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ith a comma (,)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y creating two sentences by deleting the subordinating word at the beginning of the dependent cl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Fixing 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, 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the on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one 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EXCEPTION: Never use a comma before the word “becaus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ften fragments are phrase fragments – groups of words that lack a subject or complete verb and are usually meant to be modifiers or nou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 usually begin with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al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 or words that come from verbs, like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putting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gerund)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or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to put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infinitive).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One way to fix this is to transform the phrase fragment into an independent clau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th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We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spla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explored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play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Another way to fix it is to attach the fragment to the part of the previous sentence that it modif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u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exploring 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playing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Mixed Construction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Mixed Constructions start out one way (often with long prepositional phrases) and then end with a regular predicat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Usually the object of the preposition (ofte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gerund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, is intended as the subject of the sent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Therefore, </a:t>
            </a:r>
            <a:r>
              <a:rPr b="0" lang="en-US" sz="2800" spc="-1" strike="noStrike">
                <a:solidFill>
                  <a:srgbClr val="3399ff"/>
                </a:solidFill>
                <a:latin typeface="Candara"/>
              </a:rPr>
              <a:t>removing the preposition at the beginning of the sentence is usually the easiest way to fix the fragment error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Look for sentences that begin with prepositional phr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ixing Mixed Construction Fragmen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With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the ultimate effect of all advertising is to sell the produ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The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ultimate effect of all advertising is to sell the product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he preposition “with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paying too much attention to disruptive students can make a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aying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oo much attention to disruptive students can mak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(remove the preposition “by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doing photography for another newspaper got Phil fi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Doing</a:t>
            </a:r>
            <a:r>
              <a:rPr b="0" lang="en-US" sz="1800" spc="-1" strike="noStrike">
                <a:solidFill>
                  <a:srgbClr val="ffcc66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photography for another newspaper got Phil fired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the preposition “f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hil got fired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for doing photography for another newspaper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arrange the sent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 Groups that Start with 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ome fragments start with two- or three-word prepositions that function as transitions, like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as well as, as compared with, except for, in addition to, in contrast with, in spite of, 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and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instead of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.  </a:t>
            </a:r>
            <a:r>
              <a:rPr b="0" lang="en-US" sz="2000" spc="-1" strike="noStrike">
                <a:solidFill>
                  <a:srgbClr val="ff3300"/>
                </a:solidFill>
                <a:latin typeface="Candara"/>
              </a:rPr>
              <a:t>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he growth in gross domestic product (GDP), which has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Candara"/>
              </a:rPr>
              <a:t>, 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growth in gross domestic product (GDP)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h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s and Phrases that Introduce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It is always a good idea to check words groups beginning with </a:t>
            </a:r>
            <a:r>
              <a:rPr b="0" i="1" lang="en-US" sz="2400" spc="-1" strike="noStrike">
                <a:solidFill>
                  <a:srgbClr val="3399ff"/>
                </a:solidFill>
                <a:latin typeface="Candara"/>
              </a:rPr>
              <a:t>for example, like, specifically, such as,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For example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, falling out of favor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being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For example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Candara"/>
              </a:rPr>
              <a:t>she fell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out of favor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Candara"/>
              </a:rPr>
              <a:t>w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ppositives as Fragment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Bookman Old Style"/>
              </a:rPr>
              <a:t>An appositive is a noun or noun phrase that renames a noun or prono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.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former French colony in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southeast Asi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former French colony in southeast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.”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story with deep thoughts and emotions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”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story with deep thoughts and emo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hat is a Run-On (RO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0" lang="en-US" sz="2800" spc="-1" strike="noStrike">
                <a:solidFill>
                  <a:srgbClr val="ffffcc"/>
                </a:solidFill>
                <a:latin typeface="Bookman Old Style"/>
              </a:rPr>
              <a:t>run-on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s a sentence with at least two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dependent clauses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with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 punctuatio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to separate the 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aders can’t tell where one clause ends and the next one begins.  It just keeps going and going and going and going and going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so called a </a:t>
            </a: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fused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List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Usually, you can connect a list to the preceding sentence using a colon.  If you want to emphasize the list, consider using a dash (em dash) inste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.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Louis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rmstrong, Benny Goodman,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nd Duke Ellingt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: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uis Armstrong, Benny Goodman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Duke Ellingt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A compound predicate is made up of at least two verbs as well as their objects and modifiers, connected by a coordinating conjunction such as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and, but, so, or, nor, for,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yet</a:t>
            </a:r>
            <a:r>
              <a:rPr b="0" i="1" lang="en-US" sz="2000" spc="-1" strike="noStrike">
                <a:solidFill>
                  <a:srgbClr val="3399ff"/>
                </a:solidFill>
                <a:latin typeface="Bookman Old Style"/>
              </a:rPr>
              <a:t>.  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The parts of the predicate </a:t>
            </a:r>
            <a:r>
              <a:rPr b="0" lang="en-US" sz="2000" spc="-1" strike="noStrike" u="sng">
                <a:solidFill>
                  <a:srgbClr val="3399ff"/>
                </a:solidFill>
                <a:uFillTx/>
                <a:latin typeface="Bookman Old Style"/>
              </a:rPr>
              <a:t>have the same subject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 and should be together in one sent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Examples of Independent Clauses (IC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boy walked to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e arrived at 9:00 a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arah needed to go to the grocery st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he had to buy eggs to make breakfas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ICs Written as Comma Spl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,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,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ICs Written as Run-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ays to Fix These Error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SIX W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TO FI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COMMA SPLICES AND RUN-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Bookman Old Style"/>
              </a:rPr>
              <a:t>#1: Use a Transitional Express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Join the two clauses with semi-colon (;), transi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expression,  and a comma (,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chool; soon, 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tore; specifically, s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2: Turn It into a Compound Sentenc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oin the two clauses with a comma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coordinating conjunction (</a:t>
            </a: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and, but, 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nor, for, so, ye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ust be sure to choose the conjunc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best expresses the relationship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etween the two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01:29Z</dcterms:created>
  <dc:creator/>
  <dc:description/>
  <dc:language>en-US</dc:language>
  <cp:lastModifiedBy>glsm</cp:lastModifiedBy>
  <dcterms:modified xsi:type="dcterms:W3CDTF">2012-10-18T22:08:46Z</dcterms:modified>
  <cp:revision>60</cp:revision>
  <dc:subject/>
  <dc:title>Common Sentence Errors</dc:title>
</cp:coreProperties>
</file>