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4A91-878F-4EE0-9C83-C85C378E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973-8BE7-40CA-8197-78D03CAC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195-CC68-49B5-AE9A-CEDA5708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4050-5152-4D0E-935C-77562A66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A4F4-28C3-4AC7-87E7-1CF8668A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499F-D071-439D-A1B6-9CCADD56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1B20-D48F-4FBD-96AA-20112DC3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94AB-85D1-4448-A7E6-D0A0CE86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7EBA-756C-45EF-AB0B-F3161AA7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FF5B-7A04-42BC-8668-29CD23F6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8F94-7949-482D-88B7-76F912D2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034-09E3-4AF2-B825-E3C4CCB4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6C7E-5EA6-462E-8D66-8CC70B03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A9C2-1126-4784-898F-1B87205C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FB79-407D-4368-91A6-1963ED29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98C9-6AB4-4956-BD40-3BB4B092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B595-CFA1-4CBD-BD2B-A032614B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516-9039-4215-8EBF-C3C89757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CB14-469F-4F99-A140-84189785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DA0-D9EB-4107-8621-4011949B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B85-D6F1-427E-83FF-10E71600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7876-203E-426D-A7DE-8F0C48D4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2471-5BB1-4959-BC4A-DEC4A1E4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68ED-BB28-4B4E-8967-10B1CB5D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9724-6A1A-4276-8748-B0936DF2AF01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7514-7A91-4411-9D53-AD51A4E14B43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hompchomp.com/terms/semicolon.htm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hompchomp.com/terms/propernoun.htm" TargetMode="External"/><Relationship Id="rId2" Type="http://schemas.openxmlformats.org/officeDocument/2006/relationships/hyperlink" Target="http://www.chompchomp.com/terms/propernoun.htm" TargetMode="External"/><Relationship Id="rId3" Type="http://schemas.openxmlformats.org/officeDocument/2006/relationships/hyperlink" Target="http://www.chompchomp.com/terms/propernoun.htm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hompchomp.com/terms/subordinateconjunction.htm" TargetMode="External"/><Relationship Id="rId2" Type="http://schemas.openxmlformats.org/officeDocument/2006/relationships/hyperlink" Target="http://www.chompchomp.com/terms/subordinateconjunction.htm" TargetMode="External"/><Relationship Id="rId3" Type="http://schemas.openxmlformats.org/officeDocument/2006/relationships/hyperlink" Target="http://www.chompchomp.com/terms/subordinateconjunction.htm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hompchomp.com/terms/coordinatingconjunction.htm" TargetMode="External"/><Relationship Id="rId2" Type="http://schemas.openxmlformats.org/officeDocument/2006/relationships/hyperlink" Target="http://www.chompchomp.com/terms/coordinatingconjunction.htm" TargetMode="External"/><Relationship Id="rId3" Type="http://schemas.openxmlformats.org/officeDocument/2006/relationships/hyperlink" Target="http://www.chompchomp.com/terms/coordinatingconjunction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ENTENTIAL ERRORS IN WRITING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a)Comma Spl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b)Run-on Sente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c) Sentence Fragme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d) Non- parallel Sente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Strategy 3 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 Use a semicol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Unlike a comma, a </a:t>
            </a:r>
            <a:r>
              <a:rPr b="0" lang="tr-TR" sz="2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semicolon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</a:t>
            </a: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is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a stro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enough mark of punctuation to join two mai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clauses. Use a semicolon like thi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Grandma still rides her Harley </a:t>
            </a:r>
            <a:r>
              <a:rPr b="1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motorcycle; her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toy poodle balances in a basket between the handlebar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Keep these three things in mind when you use a semicolon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The two main clauses that the semicolon joins should be closely related in meaning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Don't capitalize the word that follows the semicolon unless that word is a </a:t>
            </a:r>
            <a:r>
              <a:rPr b="0" lang="tr-TR" sz="2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proper</a:t>
            </a:r>
            <a:r>
              <a:rPr b="0" lang="tr-TR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tr-TR" sz="28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noun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, one that isalways capitalize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Limit your use of semicolons; you should not wantonly scatter them throughout your writing. Semicolons are like glasses of champagne; save them for special occasi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Strategy 4 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 Use a subordinate conjun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When you are fixing a comma splice or fus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sentence,</a:t>
            </a:r>
            <a:r>
              <a:rPr b="0" lang="tr-TR" sz="2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subordinate</a:t>
            </a:r>
            <a:r>
              <a:rPr b="0" lang="tr-TR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tr-TR" sz="28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conjunctions</a:t>
            </a: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 can be the mo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tricky to use. There are two reasons that subordin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conjunctions are tricky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1) there are many subordinate conjunctions to choose from, and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2) you must use the right punctuation. For those who are not faint of heart, here are the things to keep in min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First, know your subordinate conjunctions.Here is a lis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after /although /as /because /before/even if/even though/if</a:t>
            </a:r>
            <a:br>
              <a:rPr sz="2400"/>
            </a:b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in order that /once/provided that/rather than/</a:t>
            </a:r>
            <a:br>
              <a:rPr sz="2400"/>
            </a:b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so that/than/that/though/unless until/when/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whenever/where/whereas/wherever/whether/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while/why/si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003366"/>
                </a:solidFill>
                <a:latin typeface="Times New Roman"/>
              </a:rPr>
              <a:t>Next, keep these general rules in mind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main clause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 + Ø + </a:t>
            </a: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subordinate clause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subordinate clause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 + </a:t>
            </a: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 + </a:t>
            </a: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main clause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Now take a look at the original problem sentenc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Grandma still rides her Harley motorcycle her to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poodle balances in a basket between the handleba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XAMPLE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1)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 like all sports, basketball is probably my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favorit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 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 like all sports,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howeve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, basketball is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bably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y favorit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2)You are happy and content, things could’nt be going better with Mr. Wonderful to your lef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You are happy and content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;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things couldn’t b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going better with Mr. Wonderful to your lef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84358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3) Grandma still rides her Harley motorcycle her toy poodle balances in a basket between the handleba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Grandma still rides her Harley </a:t>
            </a:r>
            <a:r>
              <a:rPr b="1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motorcycle, and her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toy poodle balances in a basket between the handleba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4) Joey went to the grocery story. He needed to buy eggs for suppe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Joey went to the grocery store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, for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he needed to buy eggs for supper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cat jumped from step to step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t gracefully landed with each jump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cat jumped from step to step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t gracefully landed with each jump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The cat jumped from step to step,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t gracefully landed with each jump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6) The sun is high, put on some sunblock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The sun is high,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so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put on some sunscree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7)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My father is chairman of the Committee on Foreign Relations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e also heads the Warrant Commiss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y father is chairman of the committee on Foreign Relations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e also heads the Warrant Commiss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8)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ll over the country, people sell products over the Internet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hese people are making impressive profit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ll over the country, people sell products over the Internet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se people are making impressive profit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9)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Kimberly sat on the bleachers and cheered for the team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om watched her as he vigorously defended the goal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Kimberly sat on the bleachers and cheered for the team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m watched her as he vigorously defended the goal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WRITING ASSIGNMENT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ZEYNA NUR ÇAKI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/EVENING/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10)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professor stated that he especially favors personally connected papers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hese papers reflect the most emo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professor stated that he especially favors personally connected papers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hese reflect the most emotion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he professor stated that he especially favors personally connected papers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se reflect the most emo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3366"/>
                </a:solidFill>
                <a:latin typeface="Times New Roman"/>
              </a:rPr>
              <a:t>b) Run-on Sentenc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Definition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A run on sentence is a sentence that has 2 or mor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clauses which are improperly joined. Independent and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dependent clauses can be joined together to cre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compound sentences whem writing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 correct these sentences, you have several option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1) Separate clauses using punctua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2) Separate clauses using a conjunc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3) Rearrange the sentence (you may add or remove words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tr-TR" sz="4000" spc="-1" strike="noStrike">
                <a:solidFill>
                  <a:srgbClr val="003366"/>
                </a:solidFill>
                <a:latin typeface="Times New Roman"/>
              </a:rPr>
              <a:t>Examples</a:t>
            </a: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1)Judy leads a charmed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lif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she never seems to have 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serious accident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Judy leads a charmed life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;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she never seems to      have a serious accident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2) The airport is about to shut down because of th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snow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and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if the plane doesn't land soon it will have 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go on to Boston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The airport is about to shut down because of the snow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, and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if the plane doesn't land soon it will have to go on to Boston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3) People already believed the precious metals to be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divine so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their use in money intensified its allure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People already believed the precious metal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to be divine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, so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their use in money intensified its allure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4)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He put on some sunscreen, the sun was so extremely hot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 and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h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wanted to go insid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e put on some sunscreen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sun was extremely hot. H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wanted to go insid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5)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My mother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father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ister are coming to dinner tonigh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y mother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ather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 and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sister are coming to dinner tonigh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6)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lue is my favorite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colo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t is the color of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sky and the sea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t reminds me of my favorite insect which is the butterfl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lue is my favorite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color.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t is the color of the sky and the sea.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Also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t reminds me of my favorite insect which is the butterfl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7)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en I get older I want to have a big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family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 like big famili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en I get older I want to have a big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amily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 like big famili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I like big families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Whe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 get older, I want to have a big family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OR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 like big families.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So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when I get older, I want to have a big family.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8)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We usually leave at 11:00 but today is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we are leaving at 10:30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e usually leave at 11:00 but today is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different;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we are leaving at 10:30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9)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 like Tuesdays and Wednesdays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 like Fridays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becaus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he weekend starts on Frida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 like Tuesdays and Wednesdays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 also like Fridays,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weekend starts on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rida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10)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We should get moving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here’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no time to was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e should get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moving;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re’s no time to 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ast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We should get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moving.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There’s no time to wast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00"/>
                </a:solidFill>
                <a:latin typeface="Times New Roman"/>
              </a:rPr>
              <a:t>OR 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re’s no time to waste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. So,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we should get moving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3366"/>
                </a:solidFill>
                <a:latin typeface="Times New Roman"/>
              </a:rPr>
              <a:t>c) Sentence fragment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Definition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sentence fragment is a piece of inform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at is punctuated as a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ntence but that lacks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ome of the characteristics of a complet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sentenc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3366"/>
                </a:solidFill>
                <a:latin typeface="Times New Roman"/>
              </a:rPr>
              <a:t>a) Comma Splic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Definition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comma splice occurs when two independ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lauses—clauses that could stand alone 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ntences—are joined (“spliced”) with just 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ma and without benefit of a coordinat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njunction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us we have two sentences “pretending” to b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on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fused sentence is closely related to a comma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plic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t occurs when two sentences are fused without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the benefit of any punctua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There are four possible reasons for why a group of   words is a fragmen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1. Missing Subje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2. Missing Verb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3. Missing Subject and Verb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4. Dependent Clau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3366"/>
                </a:solidFill>
                <a:latin typeface="Times New Roman"/>
              </a:rPr>
              <a:t>Example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1)Although women's college basketball in Connecticu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is a marvelously entertaining and popular sport. It no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hard to remember. When it was not so popular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lthough women's college basketball i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nnecticut is a  marvelously entertaining and popula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port, it is not hard to remember when it was not so</a:t>
            </a: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popula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2)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Indeed, who would have predicted ten years ago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? That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women's basketball so wildly popular? 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deed, who would have predicted ten years ago that women's basketball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would have becom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so wildly popular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3)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nd games were played in practically silent gyms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Becaus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he fans didn't care who w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d games were played in practically silent gyms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becaus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he fans didn't care who w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4)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owadays, it almost impossible to buy tickets to a women's game, and you can't get seats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Unles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you know someon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owadays, it is almost impossible to buy tickets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women's game, and you can't get seats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unless you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5)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f more than a couple of hundred fans showed up for a game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I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was considered a big turnou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f more than a couple of hundred fans showed up for a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game, i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was considered a big turnou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6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) My youngest sister, Ruth Ann,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who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lives in Tennessee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Sh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says you can't near Pat Summitt after a game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y youngest sister, Ruth Ann, who lives in Tennessee, says you can't get near Pat Summit after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game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7)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Which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s hard to believe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Only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few years ago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my friends and I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o go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o a women's basketball game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And w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uld get seats for free near center court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specially on Sunday afterno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It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s hard to believe that only a few years ag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y friends and I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could decide to go to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 women'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asketball game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et seats for free near center court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specially on Sunday afternoon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8)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f course,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hat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efore names such as Rebeccca Lobo, Jenn Rizzotti, and Kara Wolters became household word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f course,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hat wa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before names such as Rebeccca Lobo, Jenn Rizzotti, and Kara Wolters became household word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9)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coach for Tennessee's Lady Vols, Pat Summitt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Sh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has achieved nearly godlike stature in that stat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coach for Tennessee's Lady Vols, Pat Summitt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as achieved nearly godlike stature in that stat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10)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tall, striking figure on- and off-court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mmitt commands respect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Wherever she go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tall, striking figure on- and off-court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mmitt commands respect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wherever she goe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366"/>
                </a:solidFill>
                <a:latin typeface="Times New Roman"/>
              </a:rPr>
              <a:t>c) Non-parallel sentenc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Creating parallel structure in a sentence 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achieved whem the writer balances simila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grammatical elements such as words, phrases,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clauses to demonstrate they are of equ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importanc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5183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3366"/>
                </a:solidFill>
                <a:latin typeface="Times New Roman"/>
              </a:rPr>
              <a:t>                       </a:t>
            </a:r>
            <a:r>
              <a:rPr b="0" lang="tr-TR" sz="3600" spc="-1" strike="noStrike">
                <a:solidFill>
                  <a:srgbClr val="003366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1)My dog has </a:t>
            </a:r>
            <a:r>
              <a:rPr b="0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warm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fur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, a nose that is wet, and a fluffy tail.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       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Parallel sentenc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My dog has warm fur, a wet nose, and a fluffy tail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2) She doesn’t like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washing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clothes or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housework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Parallel sentence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She doesn’t like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washing clothes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or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doing housework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note: But this sentence contains two gerund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1484280"/>
            <a:ext cx="576360" cy="503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adj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59280" y="1557360"/>
            <a:ext cx="576000" cy="431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51640" y="1484280"/>
            <a:ext cx="505080" cy="576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32720" y="1557360"/>
            <a:ext cx="576000" cy="576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Adj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1280" y="1484280"/>
            <a:ext cx="647640" cy="503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nou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1484280"/>
            <a:ext cx="648000" cy="503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Adj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A </a:t>
            </a: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comma splic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incorrectly joins two main clauses with a comma, like thi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main claus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+ </a:t>
            </a: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+ </a:t>
            </a: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main claus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A </a:t>
            </a: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fused sentenc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has two main clauses joined with no punctuation at all, like thi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main claus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+ Ø + </a:t>
            </a: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main claus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3) The British Museum is a wonderful place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to se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ancient Egyptian art,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you can explor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African artifacts, and beautiful find textiles from around the worl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Parallel sentence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The British Museum is a wonderful place 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where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you can find ancient Egyptian art,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explore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African artifacts, and discover beautiful textiles from around the world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4) She had no time to be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human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or for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being happ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Parallel sentenc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    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She had no time to be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human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to be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60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5) Reward rests not in the task but in how you do i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Parallel sentenc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Reward rests not in the task but in the pla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6) Whether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at hom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or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whil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he was working, he was always bus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Parallel sentenc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Whether at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home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or at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 work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, he was always bus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7) I remember Carla’s sister Morgan who had so many dreams and was always trying to see the good in everyon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Parallel sentenc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I remember Carla’s sister Morgan who had so many dreams and who saw the best in everyon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5075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8)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I was happy in the thought that our influence was helpful, I was doing work I loved, and making a living out of it was possibl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Parallel sentences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I was happy in the thought that our influence was helpful,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that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I was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doing work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I loved,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that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I could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make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a living out of i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9) Her children like to swim, hike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,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and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riding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dirt bik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Parallel sentenc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Her children like to swim, hike and ride dirt bik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10)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The manager wrote his report quickly,   accurately, and </a:t>
            </a:r>
            <a:r>
              <a:rPr b="0" lang="tr-TR" sz="3200" spc="-1" strike="noStrike">
                <a:solidFill>
                  <a:srgbClr val="990000"/>
                </a:solidFill>
                <a:latin typeface="Times New Roman"/>
              </a:rPr>
              <a:t>in detail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Parallel sentence: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The manager wrote his report quickly,   accurately, and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thoroughl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                </a:t>
            </a: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Know the solu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To fix a comma splice or fused sentence, use o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of the four strategies below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Strategy 1 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 Make two complete senten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Because comma splices and fused sentences contain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two main clauses, you can always add a period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[a full stop] at the end of the first clause and then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begin the second one with a capital letter. Take a look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at the fused sentence below: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Grandma still rides her Harley motorcycle her toy poodle balances in a basket between the handleba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A break should occur between </a:t>
            </a: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motorcycle</a:t>
            </a: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 and </a:t>
            </a: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her</a:t>
            </a: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To fix the problem with Strategy 1, you would revi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the sentence like this:</a:t>
            </a:r>
            <a:r>
              <a:rPr b="0" i="1" lang="tr-T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Grandma still rides her Harley </a:t>
            </a:r>
            <a:r>
              <a:rPr b="1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motorcycle. Her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toy poodle balances in a basket between the handlebars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Strategy 2 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 Use a comma and a coordinating conjun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There are seven </a:t>
            </a:r>
            <a:r>
              <a:rPr b="0" lang="tr-TR" sz="2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coordinating</a:t>
            </a:r>
            <a:r>
              <a:rPr b="0" lang="tr-TR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tr-TR" sz="28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conjunctions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. Some students remember the seven by learning the word </a:t>
            </a: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fanboys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. Each of the seven letters of </a:t>
            </a: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fanboys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stands for one of the coordinating conjuncti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F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= for; </a:t>
            </a: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= and; </a:t>
            </a: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= nor; </a:t>
            </a: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= but; </a:t>
            </a: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= or; </a:t>
            </a: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Y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= yet; </a:t>
            </a: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= s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Teamed up with a comma, these seve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 </a:t>
            </a:r>
            <a:r>
              <a:rPr b="0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coordinating conjunctions can correctly join tw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main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clauses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Take</a:t>
            </a: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 a look at our original exampl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Grandma still rides her Harley motorcycle her toy  poodle balances in a basket between the handleba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To fix the problem with Strategy 2, you should do thi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Grandma still rides her Harley </a:t>
            </a:r>
            <a:r>
              <a:rPr b="1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motorcycle, and her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toy poodle balances in a basket between the handleba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The important thing to remember with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Strategy 2 is that you must use a coordinat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conjunction that </a:t>
            </a: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logically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joins the two comple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sentenc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The coordinating conjunction </a:t>
            </a: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but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for example,  wouldn't work in the example above  because the writer isn't showing </a:t>
            </a: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contrast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1:09:23Z</dcterms:created>
  <dc:creator>PERFECT XP PC1</dc:creator>
  <dc:description/>
  <dc:language>en-US</dc:language>
  <cp:lastModifiedBy>PERFECT XP PC1</cp:lastModifiedBy>
  <dcterms:modified xsi:type="dcterms:W3CDTF">2012-10-18T17:07:13Z</dcterms:modified>
  <cp:revision>3</cp:revision>
  <dc:subject/>
  <dc:title>SENTENTIAL ERRORS IN WRITING</dc:title>
</cp:coreProperties>
</file>