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BD5-A517-4302-898D-696E4696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A2E-043A-40DE-A374-B18C2D9A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C2C-E181-4359-B47F-7180CCB3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D95-E1D3-4B14-AC3C-12C8530D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F835-9A97-48BE-B573-2E771201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92C8-38BF-4441-9BCF-29CA613B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463-263C-4948-B8C9-EAC0ABC6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ED4A-B68C-4385-9D05-D41F0681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E682-78EA-4A19-A95A-2812386B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F4E0-8EB5-444B-9BA0-ADC48E03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6CA0-7FDA-4EBE-AE1D-C3BC001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912-85CC-4B01-9005-0B7939DF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8611-5CAE-45CF-ABE3-0B70C8D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88A5-0F43-4446-AB83-EEF2F70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31FE-0B41-49E3-9F57-4153C8EB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CEFF-E940-42D6-B1A6-D30CB3D2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7395-A6BA-4C7B-A327-071E837C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3BE-E497-461E-B402-707743D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CAF-2377-4B73-90B7-8D5E40C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421-6590-4DBA-BAA2-E07E9C38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6BB-0D49-4A1E-96BB-8D900735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13B-2BF7-4A04-B8DC-DBD19C5C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B93-EF62-419D-A8A7-B7D8A669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102-9692-41C2-9F41-43761F3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FF55-E84B-46BE-8BA6-DE611E9AD53A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8591-6D32-4363-BFC0-B7758EC48F5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semicolon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propernoun.htm" TargetMode="External"/><Relationship Id="rId2" Type="http://schemas.openxmlformats.org/officeDocument/2006/relationships/hyperlink" Target="http://www.chompchomp.com/terms/propernoun.htm" TargetMode="External"/><Relationship Id="rId3" Type="http://schemas.openxmlformats.org/officeDocument/2006/relationships/hyperlink" Target="http://www.chompchomp.com/terms/propernoun.htm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subordinateconjunction.htm" TargetMode="External"/><Relationship Id="rId2" Type="http://schemas.openxmlformats.org/officeDocument/2006/relationships/hyperlink" Target="http://www.chompchomp.com/terms/subordinateconjunction.htm" TargetMode="External"/><Relationship Id="rId3" Type="http://schemas.openxmlformats.org/officeDocument/2006/relationships/hyperlink" Target="http://www.chompchomp.com/terms/subordinateconjunction.htm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coordinatingconjunction.htm" TargetMode="External"/><Relationship Id="rId2" Type="http://schemas.openxmlformats.org/officeDocument/2006/relationships/hyperlink" Target="http://www.chompchomp.com/terms/coordinatingconjunction.htm" TargetMode="External"/><Relationship Id="rId3" Type="http://schemas.openxmlformats.org/officeDocument/2006/relationships/hyperlink" Target="http://www.chompchomp.com/terms/coordinatingconjunction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ENTENTIAL ERRORS IN WRITING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a)Comma Spl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b)Run-on Sent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c) Sentence Frag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d) Non- parallel Sent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Strategy 3 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 Use a semicol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Unlike a comma, a 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semicolo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i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a stro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enough mark of punctuation to join two ma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lauses. Use a semicolon like thi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 </a:t>
            </a:r>
            <a:r>
              <a:rPr b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otorcycle; he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toy poodle balances in a basket between the handlebar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Keep these three things in mind when you use a semicol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two main clauses that the semicolon joins should be closely related in mean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on't capitalize the word that follows the semicolon unless that word is a 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proper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nou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, one that isalways capitaliz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Limit your use of semicolons; you should not wantonly scatter them throughout your writing. Semicolons are like glasses of champagne; save them for special occas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Strategy 4 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 Use a subordinate conjun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When you are fixing a comma splice or fu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sentence,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subordinate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conjunctions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 can be the m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tricky to use. There are two reasons that subordin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conjunctions are tricky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1) there are many subordinate conjunctions to choose from, an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2) you must use the right punctuation. For those who are not faint of heart, here are the things to keep in min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First, know your subordinate conjunctions.Here is a lis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after /although /as /because /before/even if/even though/if</a:t>
            </a:r>
            <a:br>
              <a:rPr sz="2400"/>
            </a:b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in order that /once/provided that/rather than/</a:t>
            </a:r>
            <a:br>
              <a:rPr sz="2400"/>
            </a:b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so that/than/that/though/unless until/when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whenever/where/whereas/wherever/whether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while/why/si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3366"/>
                </a:solidFill>
                <a:latin typeface="Times New Roman"/>
              </a:rPr>
              <a:t>Next, keep these general rules in mind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 + Ø + 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subordinate clause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subordinate clause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 + 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 + </a:t>
            </a: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Now take a look at the original problem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 motorcycle her to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all sports, basketball is probably my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favori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all sports,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howev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, basketball i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bably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favorit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2)You are happy and content, things could’nt be going better with Mr. Wonderful to your lef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You are happy and content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;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hings couldn’t b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oing better with Mr. Wonderful to your lef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3) Grandma still rides her Harley motorcycle her toy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 </a:t>
            </a:r>
            <a:r>
              <a:rPr b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otorcycle, and he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toy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4) Joey went to the grocery story. He needed to buy eggs for supp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Joey went to the grocery stor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, fo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he needed to buy eggs for supper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cat jumped from step to step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t gracefully landed with each jump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cat jumped from step to step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 gracefully landed with each jump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e cat jumped from step to step,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t gracefully landed with each jump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6) The sun is high, put on some sunblock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sun is high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so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put on some sunscre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7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y father is chairman of the Committee on Foreign Relation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 also heads the Warrant Commiss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father is chairman of the committee on Foreign Relation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 also heads the Warrant Commiss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8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ll over the country, people sell products over the Interne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se people are making impressive profi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 over the country, people sell products over the Interne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se people are making impressive profi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9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imberly sat on the bleachers and cheered for the team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om watched her as he vigorously defended the goa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imberly sat on the bleachers and cheered for the team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m watched her as he vigorously defended the goa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RITING ASSIGNMEN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ZEYNA NUR ÇAKI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/EVENING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0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fessor stated that he especially favors personally connected paper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se papers reflect the most emo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fessor stated that he especially favors personally connected paper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se reflect the most emoti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professor stated that he especially favors personally connected paper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se reflect the most emo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3366"/>
                </a:solidFill>
                <a:latin typeface="Times New Roman"/>
              </a:rPr>
              <a:t>b) Run-on Sentenc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 run on sentence is a sentence that has 2 or mor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lauses which are improperly joined. Independent an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ependent clauses can be joined together to cre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ompound sentences whem writ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correct these sentences, you have several option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) Separate clauses using punctu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) Separate clauses using a conjunc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) Rearrange the sentence (you may add or remove word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tr-TR" sz="40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)Judy leads a charmed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lif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she never seems to have 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erious accident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Judy leads a charmed lif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;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she never seems to      have a serious accident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2) The airport is about to shut down because of th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now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and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f the plane doesn't land soon it will have 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o on to Bost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airport is about to shut down because of the snow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, and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f the plane doesn't land soon it will have to go on to Bost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3) People already believed the precious metals to b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divine so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heir use in money intensified its allur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People already believed the precious metal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o be divin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, so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heir use in money intensified its allur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e put on some sunscreen, the sun was so extremely ho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an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wanted to go insid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 put on some sunscreen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un was extremely hot. H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wanted to go insid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5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y mother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father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ster are coming to dinner tonigh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mother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ther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an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sister are coming to dinner tonigh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6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lue is my favorit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ol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t is the color of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ky and the se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 reminds me of my favorite insect which is the butterf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lue is my favorit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olor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t is the color of the sky and the sea.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lso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t reminds me of my favorite insect which is the butterf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7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en I get older I want to have a big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amily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big famil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en I get older I want to have a big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mily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 like big famil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I like big familie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he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 get older, I want to have a big family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big families.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o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hen I get older, I want to have a big family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8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e usually leave at 11:00 but today i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e are leaving at 10:30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usually leave at 11:00 but today i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ifferent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e are leaving at 10:30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9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Tuesdays and Wednesday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 like Friday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weekend starts on Frida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like Tuesdays and Wednesday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 also like Fridays,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weekend starts o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rida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0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e should get moving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re’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no time to was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e should get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oving;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re’s no time to 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ast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We should get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oving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ere’s no time to wast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00"/>
                </a:solidFill>
                <a:latin typeface="Times New Roman"/>
              </a:rPr>
              <a:t>OR 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re’s no time to waste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. So,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we should get moving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3366"/>
                </a:solidFill>
                <a:latin typeface="Times New Roman"/>
              </a:rPr>
              <a:t>c) Sentence fragment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sentence fragment is a piece of inform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at is punctuated as a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ntence but that lack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 of the characteristics of a complet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senten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3366"/>
                </a:solidFill>
                <a:latin typeface="Times New Roman"/>
              </a:rPr>
              <a:t>a) Comma Splic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comma splice occurs when two in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auses—clauses that could stand alone 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ntences—are joined (“spliced”) with just 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a and without benefit of a coordina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junctio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us we have two sentences “pretending” to b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fused sentence is closely related to a comma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lic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 occurs when two sentences are fused withou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he benefit of any punctu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There are four possible reasons for why a group of   words is a fragmen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1. Missing Subj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2. Missing Ver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3. Missing Subject and Ver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4. Dependent Clau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1)Although women's college basketball in Connectic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is a marvelously entertaining and popular sport. It n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hard to remember. When it was not so popular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though women's college basketball 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necticut is a  marvelously entertaining and popul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port, it is not hard to remember when it was not so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popula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2)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ndeed, who would have predicted ten years ago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? That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women's basketball so wildly popular? 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deed, who would have predicted ten years ago that women's basketball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ould have becom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so wildly popular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3)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games were played in practically silent gym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fans didn't care who w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d games were played in practically silent gym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caus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fans didn't care who w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4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wadays, it almost impossible to buy tickets to a women's game, and you can't get seat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Unles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you know some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wadays, it is almost impossible to buy ticket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women's game, and you can't get seat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unless you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5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more than a couple of hundred fans showed up for a game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I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as considered a big turnou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more than a couple of hundred fans showed up for 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game, i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as considered a big turnou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) My youngest sister, Ruth Ann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ho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lives in Tennesse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Sh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says you can't near Pat Summitt after a gam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youngest sister, Ruth Ann, who lives in Tennessee, says you can't get near Pat Summit aft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gam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7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hich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hard to believe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Only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few years ago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y friends and I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o go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o a women's basketball game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And w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uld get seats for free near center cour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pecially on Sunday afterno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It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s hard to believe that only a few years ag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y friends and I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ould decide to go to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 women'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asketball gam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 seats for free near center cour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pecially on Sunday afternoon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8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 course,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at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fore names such as Rebeccca Lobo, Jenn Rizzotti, and Kara Wolters became household word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 course,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at wa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before names such as Rebeccca Lobo, Jenn Rizzotti, and Kara Wolters became household wor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9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coach for Tennessee's Lady Vols, Pat Summit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S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as achieved nearly godlike stature in that sta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coach for Tennessee's Lady Vols, Pat Summit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 achieved nearly godlike stature in that sta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0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tall, striking figure on- and off-cour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itt commands respec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Wherever she g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Correct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tall, striking figure on- and off-court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itt commands respect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herever she go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366"/>
                </a:solidFill>
                <a:latin typeface="Times New Roman"/>
              </a:rPr>
              <a:t>c) Non-parallel sentenc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reating parallel structure in a sentence 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chieved whem the writer balances simi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mmatical elements such as words, phrase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lauses to demonstrate they are of equ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mportan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5183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0" lang="tr-TR" sz="36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)My dog has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warm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fu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, a nose that is wet, and a fluffy tail.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My dog has warm fur, a wet nose, and a fluffy tai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2) She doesn’t lik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ashing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clothes o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ousewor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he doesn’t lik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ashing clothe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doing housework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note: But this sentence contains two gerund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1484280"/>
            <a:ext cx="576360" cy="503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d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1557360"/>
            <a:ext cx="576000" cy="43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1484280"/>
            <a:ext cx="505080" cy="576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1557360"/>
            <a:ext cx="576000" cy="576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Adj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1484280"/>
            <a:ext cx="647640" cy="503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no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1484280"/>
            <a:ext cx="648000" cy="503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Adj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comma splic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incorrectly joins two main clauses with a comma, like th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+ 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+ 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fused sentenc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has two main clauses joined with no punctuation at all, like th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+ Ø + 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main claus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3) The British Museum is a wonderful plac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to se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ancient Egyptian art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you can explor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African artifacts, and beautiful find textiles from around the worl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British Museum is a wonderful place 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here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you can find ancient Egyptian art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explore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frican artifacts, and discover beautiful textiles from around the world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4) She had no time to b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uman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or fo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being happ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he had no time to b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uma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to be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60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5) Reward rests not in the task but in how you do i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Reward rests not in the task but in the pla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6) Whethe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at hom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while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he was working, he was always bus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Whether at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home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or at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 work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, he was always bus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7) I remember Carla’s sister Morgan who had so many dreams and was always trying to see the good in every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 remember Carla’s sister Morgan who had so many dreams and who saw the best in every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8)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 was happy in the thought that our influence was helpful, I was doing work I loved, and making a living out of it was possib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I was happy in the thought that our influence was helpful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tha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 was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doing work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 loved,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tha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I could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make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 living out of i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9) Her children like to swim, hike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riding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dirt bik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Parallel sentenc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Her children like to swim, hike and ride dirt bik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10)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The manager wrote his report quickly,   accurately, and </a:t>
            </a:r>
            <a:r>
              <a:rPr b="0" lang="tr-TR" sz="3200" spc="-1" strike="noStrike">
                <a:solidFill>
                  <a:srgbClr val="990000"/>
                </a:solidFill>
                <a:latin typeface="Times New Roman"/>
              </a:rPr>
              <a:t>in detai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Times New Roman"/>
              </a:rPr>
              <a:t>Parallel sentence: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manager wrote his report quickly,   accurately, and </a:t>
            </a:r>
            <a:r>
              <a:rPr b="0" lang="tr-TR" sz="2800" spc="-1" strike="noStrike">
                <a:solidFill>
                  <a:srgbClr val="990000"/>
                </a:solidFill>
                <a:latin typeface="Times New Roman"/>
              </a:rPr>
              <a:t>thorough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Know the sol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o fix a comma splice or fused sentence, use 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of the four strategies be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Strategy 1 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 Make two complete sente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Because comma splices and fused sentences contai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wo main clauses, you can always add a perio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[a full stop] at the end of the first clause and the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begin the second one with a capital letter. Take a look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at the fused sentence below: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 motorcycle her toy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A break should occur between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motorcycle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 and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her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To fix the problem with Strategy 1, you would revi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the sentence like this:</a:t>
            </a:r>
            <a:r>
              <a:rPr b="0" i="1" lang="tr-T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 </a:t>
            </a:r>
            <a:r>
              <a:rPr b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otorcycle. He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toy poodle balances in a basket between the handlebars</a:t>
            </a: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Strategy 2 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1" lang="tr-TR" sz="2800" spc="-1" strike="noStrike">
                <a:solidFill>
                  <a:srgbClr val="003366"/>
                </a:solidFill>
                <a:latin typeface="Times New Roman"/>
              </a:rPr>
              <a:t> Use a comma and a coordinating conjun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re are seven 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coordinating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conjunction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Some students remember the seven by learning the word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fanboy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Each of the seven letters of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fanboy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stands for one of the coordinating conjunc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for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and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nor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but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or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= yet; </a:t>
            </a:r>
            <a:r>
              <a:rPr b="1" i="1" lang="tr-TR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= s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Teamed up with a comma, these sev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ordinating conjunctions can correctly join tw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ain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clauses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ake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 a look at our original examp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 motorcycle her toy 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To fix the problem with Strategy 2, you should do th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Grandma still rides her Harley </a:t>
            </a:r>
            <a:r>
              <a:rPr b="1" lang="tr-TR" sz="2800" spc="-1" strike="noStrike" u="sng">
                <a:solidFill>
                  <a:srgbClr val="003366"/>
                </a:solidFill>
                <a:uFillTx/>
                <a:latin typeface="Times New Roman"/>
              </a:rPr>
              <a:t>motorcycle, and her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toy poodle balances in a basket between the handleb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important thing to remember with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trategy 2 is that you must use a coordina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conjunction that 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logically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 joins the two comple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sentenc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The coordinating conjunction 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bu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for example,  wouldn't work in the example above  because the writer isn't showing </a:t>
            </a:r>
            <a:r>
              <a:rPr b="0" i="1" lang="tr-TR" sz="2800" spc="-1" strike="noStrike">
                <a:solidFill>
                  <a:srgbClr val="003366"/>
                </a:solidFill>
                <a:latin typeface="Times New Roman"/>
              </a:rPr>
              <a:t>contrast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1:09:23Z</dcterms:created>
  <dc:creator>PERFECT XP PC1</dc:creator>
  <dc:description/>
  <dc:language>en-US</dc:language>
  <cp:lastModifiedBy>PERFECT XP PC1</cp:lastModifiedBy>
  <dcterms:modified xsi:type="dcterms:W3CDTF">2012-10-18T17:07:13Z</dcterms:modified>
  <cp:revision>3</cp:revision>
  <dc:subject/>
  <dc:title>SENTENTIAL ERRORS IN WRITING</dc:title>
</cp:coreProperties>
</file>